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FF9-ABC4-4FF1-B533-7F957F38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660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376-A071-4CBC-A03E-DA4E054A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874-9C8A-4191-83F5-45E22765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9C1-202B-4FE9-BDDA-D02DE917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190D-1F6E-47A7-BDC0-19CAB9D2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B987-D10D-4AC5-85BF-FE434418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A668-3161-401A-9E85-9393AC0F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DEE7-0804-459C-B3A8-07A66A4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CF33-7643-492A-8865-1D38AAF3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7721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4E3A-BC8D-43DA-A600-1991BB73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537C-D2EB-49F3-9D7C-7BE57DA0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677-0DD1-423E-B83F-6A142B59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C2D0-5096-413E-90F4-49C4A3E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B2F-1280-4D22-8992-672FDB31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4660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C1A-A9B0-4E8C-BBD5-C89AED69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9A73-E1B8-4B90-9988-87F87A8F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252C-A96B-425F-B9CE-C0727805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819-CECF-4DD0-AED6-63F0B73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30E-6BCC-48A1-A663-21C7E78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95D-52AF-4D0F-88F2-0F9CC5E6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7721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C0A-8399-4FC4-8A09-B30F3A80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1DE-B0FE-42B6-8619-5D88FC4E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084-2AC2-4E75-8804-B53CF244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1D8-7EFF-4691-AC53-B123E28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36480" indent="-234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919080" indent="-168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4039-87C0-4498-9640-21529EB66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353880" y="961920"/>
            <a:ext cx="879012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353880" y="961920"/>
            <a:ext cx="8790120" cy="38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paint"/>
          <p:cNvPicPr/>
          <p:nvPr/>
        </p:nvPicPr>
        <p:blipFill>
          <a:blip r:embed="rId3"/>
          <a:stretch/>
        </p:blipFill>
        <p:spPr>
          <a:xfrm>
            <a:off x="353880" y="1835280"/>
            <a:ext cx="879012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9"/>
          <p:cNvSpPr/>
          <p:nvPr/>
        </p:nvSpPr>
        <p:spPr>
          <a:xfrm>
            <a:off x="6862680" y="6288120"/>
            <a:ext cx="365040" cy="365040"/>
          </a:xfrm>
          <a:custGeom>
            <a:avLst/>
            <a:gdLst>
              <a:gd name="textAreaLeft" fmla="*/ 23400 w 365040"/>
              <a:gd name="textAreaRight" fmla="*/ 341640 w 3650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7434360" y="6288120"/>
            <a:ext cx="365040" cy="365040"/>
          </a:xfrm>
          <a:custGeom>
            <a:avLst/>
            <a:gdLst>
              <a:gd name="textAreaLeft" fmla="*/ 23400 w 365040"/>
              <a:gd name="textAreaRight" fmla="*/ 341640 w 3650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8007480" y="6288120"/>
            <a:ext cx="365040" cy="365040"/>
          </a:xfrm>
          <a:custGeom>
            <a:avLst/>
            <a:gdLst>
              <a:gd name="textAreaLeft" fmla="*/ 23400 w 365040"/>
              <a:gd name="textAreaRight" fmla="*/ 341640 w 3650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8580600" y="6288120"/>
            <a:ext cx="365040" cy="365040"/>
          </a:xfrm>
          <a:custGeom>
            <a:avLst/>
            <a:gdLst>
              <a:gd name="textAreaLeft" fmla="*/ 23400 w 365040"/>
              <a:gd name="textAreaRight" fmla="*/ 341640 w 3650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36480" indent="-234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919080" indent="-168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38E8-9184-4192-878A-DC50E99EAD4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056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Unit 2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Section C.4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omposition of Material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ractice Problem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50.0-gram sample of ore contains 5.00g of lead(III)sulfate, Pb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a) What is the % metal in PbSO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b) What is the percent PbSO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in the </a:t>
            </a:r>
            <a:r>
              <a:rPr b="0" i="1" lang="en-US" sz="3200" spc="-1" strike="noStrike">
                <a:solidFill>
                  <a:srgbClr val="66ffff"/>
                </a:solidFill>
                <a:latin typeface="Arial"/>
              </a:rPr>
              <a:t>ore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ractice Problem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50.0-gram sample of ore contains 5.00g of lead(III)sulfate, Pb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) What is the percent Pb in the total ore sampl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ractice Problems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ich mineral would be most profitable to mine for chromium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Cr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PbCr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or Cr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% Composition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rcent composition: (def)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ercent </a:t>
            </a: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by mass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 of each material found in an i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rcent composition helps geologists describe how much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etal or mineral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s present in a particular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ore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ey can evaluate if the metal should even be min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ommon Copper-containing mineral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2720" indent="-252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calculate the % of Cu in each miner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559800" indent="-206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ass of Cu in compoun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x 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559800" indent="-206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tal mass of comp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mass of Cu in compound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63.55g x 2 =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27.1 g Cu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total mass of compound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(63.55 g x 2) + 32.07 g = 159.17 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% Cu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= (127.1g/159.17g) x 100 = </a:t>
            </a:r>
            <a:r>
              <a:rPr b="0" lang="en-US" sz="3000" spc="-1" strike="noStrike">
                <a:solidFill>
                  <a:srgbClr val="ffff59"/>
                </a:solidFill>
                <a:latin typeface="Arial"/>
              </a:rPr>
              <a:t>79.85% Cu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4582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opper-containing mineral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FeS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mass Cu: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63.55 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mass of compound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63.55 g + 55.85 g + (32.07g x 2) = 183.54 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%Cu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63.55 g Cu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x 100 = </a:t>
            </a:r>
            <a:r>
              <a:rPr b="0" lang="en-US" sz="2800" spc="-1" strike="noStrike">
                <a:solidFill>
                  <a:srgbClr val="ffff59"/>
                </a:solidFill>
                <a:latin typeface="Arial"/>
              </a:rPr>
              <a:t>34.62% C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3.54 g comp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opper-Containing mineral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1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OH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59"/>
                </a:solidFill>
                <a:latin typeface="Arial"/>
              </a:rPr>
              <a:t>mass Cu in compound: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63.55 g x 2 = 127.1 g Cu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59"/>
                </a:solidFill>
                <a:latin typeface="Arial"/>
              </a:rPr>
              <a:t>total mass of compound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63.55 g x 2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2.01g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16.00g x 3)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%Cu =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127.1 g Cu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= 57.48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16.00g x 2)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221.13 g total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+  (1.01 g x 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21.13 g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267080" y="449568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4267080" y="4419720"/>
            <a:ext cx="464832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505320" y="3886200"/>
            <a:ext cx="5638680" cy="19810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Mining a Metal Ore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wo factors to consider when deciding whether it’s worthwhile to mine a particular or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1) percent of mineral in the o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2) percent of metal in the mine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686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Black"/>
              </a:rPr>
              <a:t>Picture to Relate % Metal in Ore</a:t>
            </a:r>
            <a:endParaRPr b="0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ount of Cu in ore containing 10% chalcocite (Cu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ercent Comp. Practice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ractice Problem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22:16Z</dcterms:created>
  <dc:creator>Great Valley High School</dc:creator>
  <dc:description/>
  <dc:language>en-US</dc:language>
  <cp:lastModifiedBy>Great Valley High School</cp:lastModifiedBy>
  <dcterms:modified xsi:type="dcterms:W3CDTF">2009-02-17T18:33:12Z</dcterms:modified>
  <cp:revision>26</cp:revision>
  <dc:subject/>
  <dc:title>Slide 1</dc:title>
</cp:coreProperties>
</file>